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057-A019-42EA-BA1E-8E5B4C30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97E-A9D8-415A-808D-150977B3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14D-F37F-4D91-9BD1-1246276B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E614-8A79-4B62-80FD-968FD580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1A4-2AC1-4805-9B47-B1E64D10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76C-CA41-4A3D-89B2-D51186AA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0E3-3CF0-4D61-9C4A-3146FC20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3DB-6D7D-4F55-BF75-FE9C5594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482-59EA-41D5-AF7E-9765E3DC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408-41D1-4AA2-BE57-E79DB796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219-B8A1-4977-9C6F-2E40751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FAA-9234-4BFC-AA8F-522AA988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2A39-CD42-49E9-9739-4E3E3344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Pres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orn in 18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killed by John Wilkes Bo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ved in a log cab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very sm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b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sixth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d to 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3213360" cy="3980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ed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only president that didn’t live in the Whit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very b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very 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called Father of ou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43800" y="3903840"/>
            <a:ext cx="16002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Washington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9680" y="2205000"/>
            <a:ext cx="3643200" cy="244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31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1:17:09Z</dcterms:created>
  <dc:creator>smuser</dc:creator>
  <dc:description/>
  <dc:language>en-US</dc:language>
  <cp:lastModifiedBy>smuser</cp:lastModifiedBy>
  <dcterms:modified xsi:type="dcterms:W3CDTF">2010-02-02T17:05:48Z</dcterms:modified>
  <cp:revision>3</cp:revision>
  <dc:subject/>
  <dc:title>Comparing Presidents</dc:title>
</cp:coreProperties>
</file>